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FEE-9B15-4B9C-8851-F39C05C5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462-2F26-409B-8E7F-12F3ADDF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D2B-C26A-4CC2-BC9C-68B9909E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401-383F-4C3D-8C3A-40C2214F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1632-DFB1-41BB-A152-403F2326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0914-31A6-4A30-8D65-BDB72D0D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024B-2B08-42A3-8F07-F835BECD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8498-C06C-4701-9486-824C295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905D-FBDA-4C8E-9CE6-2628F179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7E18-80D0-439A-A40E-C6D89204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4BDE-8983-42CD-BE09-609A417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047-D9F5-461B-9ADE-92C8145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D664-5F91-4390-A0CD-735824E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C179-92EE-46EC-A783-6E114CC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C86-4DC3-422F-A36E-C09D10B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5F03-3FCC-47CC-B8A6-A1C5F9FF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1B25-DAA9-4ED6-8B9A-125821BC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8147-F74B-463D-B2EA-D66C7F25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299D-2AC4-46CB-86D6-C8B3DC4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DDBA-D372-420A-B691-A94D4EFE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B27A-D1EF-494F-90D8-48836CC0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4DA2-6221-42DB-A513-1D64E709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E1F-53D3-452D-B081-D577B381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F426-879C-41C6-8C7B-984A91D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18F3-9C53-497F-AD93-FC88CA4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E771-68AB-46A6-A6ED-1230C4A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DB96-BA1C-40C2-AA71-0F9CD2B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76E4-32D7-499D-B12C-A1D6CE61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C1B6-2A56-416F-91E9-5038BE64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D6B9-7B6E-415E-88CF-B1A0401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BADE-E899-47B7-A2E2-06B82038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D5D04-6815-429C-8592-9694B4D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BFE4-3AB4-45F0-B4EA-C74F5914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D31-7EFE-4E54-9030-A1EB5663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277D-52E7-4F8E-817C-9229AA79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02EF-471F-4C7E-A5D2-5F3F774C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E554-AEDB-41F3-8CED-475A59B4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9C37-A83A-40D3-9E81-E3A786C3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21828-8D52-4BFA-92E8-3A2020D2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A8065-1D45-4BFC-9066-E24A8F8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77C2-692C-459C-99B8-9A3A5CD6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35EB-549C-488C-8BC2-FB04B237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102E-6FE1-4162-872C-1D6FB299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96FA-20DC-45B6-A880-124054FF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F8C-AD8C-4A4E-A816-463F0638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2D7B-E79B-46F7-AEAA-39C44CA4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7E678-19AF-4B98-9B7C-0B510D8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B256-9217-4519-A00F-6404D59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B13E9-554C-49DC-A627-35A4A68A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3269-ABA4-40EB-9E86-21DE312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1488-A0E8-4225-9B9F-C5C5A55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A794-3756-4512-82A8-8EBFD63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BE54-A961-47FE-A5A8-8B06AFB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503D-9F53-401D-BAAA-C44C3D2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0BDA-EB65-4C95-B9EA-1F5C6E39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4BC-BDB1-44C8-A25C-0769E97F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45A4C-EBE5-4DB8-A460-4C1065C7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BCF5-1BC2-419A-9031-488D2780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5F00-69C7-4B78-863D-FD72B45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BDF6-18DB-4DAD-A1A6-2C868D1A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2309A-B5F9-4FB6-BBAC-79F6490F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674E-D032-46F7-BAFB-9D7A59D1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5EA0-E8E9-4F0E-99F5-DD45616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EAA5-B5E3-43D3-8390-03CAB00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4797-D657-4A07-A025-7C9DF848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E88B-4B08-47AF-83BD-CC8DA66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CD7-59F6-4C55-ABE5-A3800B3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1329-D33A-4676-A4B5-C94DB66D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1361-3151-4E0E-BCD4-5BBE22F8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EBD7-7107-46EA-9F49-06AE5EEE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34AD-CC00-4523-AB01-B3FEB52A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1B738-FF2B-4E5D-95C7-AF035225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0946-3A19-4B78-A5BB-EF69480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DB53-E423-43CC-B03F-BF1C3D0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FBAE1-4744-4F0B-839B-D6F4E780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C2DE-FA72-4DDB-B80E-39FE0540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8328-65BA-45FB-8D13-B9AE3E5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D25-19F5-4BBC-A34F-1DD875D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BD5F-45B8-403F-8656-1D0913E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BCAD0-8410-4DED-A7D1-FFFBA6D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626C-5064-4C58-AADB-9CB90A8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16FD-4028-4219-9C00-1CAFC0BA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FF22-7809-4BF9-B0BE-C810A524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01E-832A-4525-B9DA-8936646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093-FA1A-4085-B14C-8FDED56AA59F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D606-A016-4632-AA85-BAB69C2F3E6A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6D95-E64C-47B8-BB69-E5D48D0EA521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AC20-6870-4C7D-957F-3D214CDB597A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CAE3-0DF4-4544-82B2-E5F282F7F819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2633-1295-45B7-9146-65A69715791E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CBC-A6BD-44CC-B213-BCC381D01BF7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media.techeblog.com/images/pluto_planet.jpg&amp;imgrefurl=http://www.techeblog.com/index.php/tech-gadget/pluto-a-planet-again&amp;usg=__sM3kuzHVaccHN-uJwhaXJwcXf0s=&amp;h=650&amp;w=450&amp;sz=86&amp;hl=en&amp;start=53&amp;um=1&amp;itbs=1&amp;tbnid=-cgaIz0HRtSZOM:&amp;tbnh=137&amp;tbnw=95&amp;prev=/images?q=pluto+planet&amp;ndsp=18&amp;hl=en&amp;safe=active&amp;sa=N&amp;start=36&amp;um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2023920"/>
            <a:ext cx="8010360" cy="1560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38080" y="28191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MIL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ERS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http://t2.gstatic.com/images?q=tbn:-cgaIz0HRtSZOM:http://media.techeblog.com/images/pluto_plane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533520"/>
            <a:ext cx="4419720" cy="419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1941120" y="990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 rot="153600">
            <a:off x="2995200" y="1238040"/>
            <a:ext cx="4295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                    </a:t>
            </a: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Facts 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057040" y="2819160"/>
            <a:ext cx="6629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arthest and small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ngest trip to Plu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is a imaginary 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2" descr="http://t1.gstatic.com/images?q=tbn:deFtvkRm1sCL-M:http://www.mathiaspedersen.com/3dportfolio/highres/poor_pluto_1600x900.jpg"/>
          <p:cNvPicPr/>
          <p:nvPr/>
        </p:nvPicPr>
        <p:blipFill>
          <a:blip r:embed="rId1"/>
          <a:stretch/>
        </p:blipFill>
        <p:spPr>
          <a:xfrm>
            <a:off x="5802480" y="914400"/>
            <a:ext cx="2788920" cy="1562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5"/>
          <p:cNvSpPr/>
          <p:nvPr/>
        </p:nvSpPr>
        <p:spPr>
          <a:xfrm>
            <a:off x="2971800" y="15228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                     </a:t>
            </a:r>
            <a:r>
              <a:rPr b="0" lang="en-US" sz="5400" spc="-1" strike="noStrike">
                <a:solidFill>
                  <a:srgbClr val="b13f9a"/>
                </a:solidFill>
                <a:latin typeface="Corbel"/>
              </a:rPr>
              <a:t>Moo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1901880" y="1447920"/>
            <a:ext cx="54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Has 3 mo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Nix , Hydra and Char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haron is larges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www.space.com/images/051031_pluto_moons_02.jpg"/>
          <p:cNvPicPr/>
          <p:nvPr/>
        </p:nvPicPr>
        <p:blipFill>
          <a:blip r:embed="rId1"/>
          <a:stretch/>
        </p:blipFill>
        <p:spPr>
          <a:xfrm>
            <a:off x="1371600" y="3267000"/>
            <a:ext cx="6191280" cy="359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"/>
          <p:cNvSpPr/>
          <p:nvPr/>
        </p:nvSpPr>
        <p:spPr>
          <a:xfrm>
            <a:off x="2133720" y="1066680"/>
            <a:ext cx="464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warf  Plan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2438280" y="26668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as a Planet for 76 yea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992 astronomers found hundreds of icy objects like Plut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thin Kuiper Bel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pluto-planet"/>
          <p:cNvPicPr/>
          <p:nvPr/>
        </p:nvPicPr>
        <p:blipFill>
          <a:blip r:embed="rId1"/>
          <a:stretch/>
        </p:blipFill>
        <p:spPr>
          <a:xfrm>
            <a:off x="228600" y="685800"/>
            <a:ext cx="2857680" cy="21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Description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de of ice and frozen 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dest in solar syste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ts to 360 degrees below zer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astro.com/im/mtp/pluto.gif"/>
          <p:cNvPicPr/>
          <p:nvPr/>
        </p:nvPicPr>
        <p:blipFill>
          <a:blip r:embed="rId1"/>
          <a:stretch/>
        </p:blipFill>
        <p:spPr>
          <a:xfrm>
            <a:off x="1523880" y="46483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www.nasa.gov/images/content/137120main_hst_pluto1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onsolas"/>
              </a:rPr>
              <a:t>Fun Fact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295280"/>
            <a:ext cx="4572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eed telescope to se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lanet from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 lif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49:10Z</dcterms:created>
  <dc:creator>ANDEREMI000</dc:creator>
  <dc:description/>
  <dc:language>en-US</dc:language>
  <cp:lastModifiedBy>ANDEREMI000</cp:lastModifiedBy>
  <dcterms:modified xsi:type="dcterms:W3CDTF">2010-02-04T16:27:25Z</dcterms:modified>
  <cp:revision>19</cp:revision>
  <dc:subject/>
  <dc:title>Pluto</dc:title>
</cp:coreProperties>
</file>